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D8D2D-43AF-4B16-98B3-71E67C31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40B5F-C554-4B7C-A78B-B07D0AA9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52658-7C38-4C6B-BC7C-796D7D22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1F2DB-D4B9-46F7-9F01-594B8E3A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5388-175D-4BAB-9099-2D3E4818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7B70-75F7-4D82-A19A-A79E0837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862E-34B8-4083-9733-662B3916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128C-F27D-4E95-9157-E92AC664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E398-D5DF-4E19-907C-8C2CECF5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7F9B-9EA9-440B-9EA2-7D38F76C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A17C-78A6-42F3-AEFB-505A7672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74B95-36A1-4985-BD91-432C7D0B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AE5E-68CA-42A9-A2D8-A0332CBF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5E12-ABD9-423B-9C6A-5D2C48AD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C6A6-1F09-479E-914F-A271309E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5E62-1C13-4848-AB5B-CDB5901C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A34F-BF17-4176-AF77-D0235719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D58E-14B1-4732-89D1-ACC1373B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CA739-5F6A-4B7C-93AD-360FCEBE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32CFC-E15B-43FF-AB47-9424AB31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87E49-8C37-4C57-91F2-2671F652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5DB23-7C58-4CF0-BBC9-92C9F1CA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86E03-46DC-494F-9198-D587E83D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0C8E6-2230-4BE4-BA5F-7146ECF1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7747-8EC4-4023-AC78-6416A7428F8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AAA9-7B13-4FE6-964D-09AA8C13B3D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864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159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(Пр.260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Кога по пътя на живот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стигнеш своята Голгот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помни тогава наший Спа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дигни към Него своя глас!:]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75356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Кажи, че страдаш ти тогав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е мрак душата ти смущава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виж тогава - само Т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ще те изпълни с мир, покой! :]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14:43:06Z</dcterms:modified>
  <cp:revision>92</cp:revision>
  <dc:subject/>
  <dc:title>Slide 1</dc:title>
</cp:coreProperties>
</file>